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E71F-9BE6-43DA-9AFC-3C1A910A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47FC-8530-4343-886A-9842F5F2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3944-52BE-4AB9-9D40-5E3E1E95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B0B6-7816-4DA4-A4A3-423730D2A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5D36-EE8E-46A4-B10A-1858AC20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8825-67D4-4A8C-AE83-2953456F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EC28-AC2F-495E-9FF6-642AF568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7438-3FF7-4AE8-9AB1-98ACC24A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E462-7AB6-4ADC-BEF2-31AC3621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3EF3-8D53-4CA6-8B6D-4447F455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D218-BBFE-45C0-903E-72C54BEF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E091-D38B-44A5-B5A6-128613CF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CE46-1C9D-45DC-B53C-04872999B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1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738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02920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ليلة الميلاد يمحى البغض    ليلة الميلاد تزهر الأر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ليلة الميلاد تدفن الحرب     ليلة الميلاد ينبت الحب</a:t>
            </a:r>
            <a:r>
              <a:rPr b="0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0016860_Thumbnail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3568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352680"/>
            <a:ext cx="8763120" cy="57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ندما نسقي عطشان كأس ماء     نكون في الميلا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ندما نكسي عريان ثوب حب       نكون في الميلا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ندما نكفكف الدموع في العيون    نكون في الميلا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ندما نفرش القلوب بالرجاء           نكون في الميلا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1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738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02920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ليلة الميلاد يمحى البغض    ليلة الميلاد تزهر الأر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ليلة الميلاد تدفن الحرب     ليلة الميلاد ينبت الحب</a:t>
            </a:r>
            <a:r>
              <a:rPr b="0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1303917YvwWhKWccB_ph" descr=""/>
          <p:cNvPicPr/>
          <p:nvPr/>
        </p:nvPicPr>
        <p:blipFill>
          <a:blip r:embed="rId1"/>
          <a:stretch/>
        </p:blipFill>
        <p:spPr>
          <a:xfrm>
            <a:off x="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638680" y="380880"/>
            <a:ext cx="3505320" cy="96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ندما أقبّل رفيقي دون غش  أكون في الميلا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ندما تموت فيّ روح الانتقام أكون في الميلا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ندما يرمّد في قلبي الجفا أكون في الميلا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ندما تذوب نفسي في كيان الله أكون في الميلا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1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738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502920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ليلة الميلاد يمحى البغض    ليلة الميلاد تزهر الأر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ليلة الميلاد تدفن الحرب     ليلة الميلاد ينبت الحب</a:t>
            </a:r>
            <a:r>
              <a:rPr b="0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09:49:43Z</dcterms:created>
  <dc:creator>SUZANNE.MD</dc:creator>
  <dc:description/>
  <dc:language>en-US</dc:language>
  <cp:lastModifiedBy>USER</cp:lastModifiedBy>
  <dcterms:modified xsi:type="dcterms:W3CDTF">2003-02-08T06:56:21Z</dcterms:modified>
  <cp:revision>4</cp:revision>
  <dc:subject/>
  <dc:title>PowerPoint Presentation</dc:title>
</cp:coreProperties>
</file>